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388-1BD3-408E-98B8-EF36E1A7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D2E-4A19-41FA-9CFB-7664D4CD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851-47CA-4DFC-AA25-35413395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0BD-14A4-4BB6-83FE-CE95C6AB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376-8BC6-49AD-8E8C-77FAD830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F87-6837-4499-B809-6B2AAA03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32D-A92B-4AD6-928B-E252EC3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B8E-E1D3-43D7-8208-ADADFFB7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B4F-4CA0-42C2-BC19-0109AE7C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563-2D35-49E0-86D7-3791731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39E-8C11-4427-98FA-9D21888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C84-5A95-4E99-AAA8-D5AE4802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E3F2-3B8F-40BA-9E95-C52DB2ED2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PUMPED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y Com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cience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listening to Rock n’ Roll increase  your pulse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believe that listening to Rock n’ Roll will increase your pulse r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3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ariables: Sam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Variable: Resting Heart Rate vs. Rock n’ Roll Hear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Variable: See Result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 Heart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 n’ Roll Hear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          60 BPM                                9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er     8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ne      95 BPM                               11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    9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i          9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n     80 BPM                                85 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00:28Z</dcterms:created>
  <dc:creator>USD376</dc:creator>
  <dc:description/>
  <dc:language>en-US</dc:language>
  <cp:lastModifiedBy>USD376</cp:lastModifiedBy>
  <dcterms:modified xsi:type="dcterms:W3CDTF">2010-03-02T16:00:54Z</dcterms:modified>
  <cp:revision>13</cp:revision>
  <dc:subject/>
  <dc:title>Game On!</dc:title>
</cp:coreProperties>
</file>